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2DE7-AD0E-43D6-AA1D-20B113CBD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DD69-E624-4264-B941-511CB2CF3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15B6-1736-4EFF-8CA2-1AEE5122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6636-C177-4125-8EF8-3FE5AE56E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BFB1-2910-4180-AB90-E214EBEB4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AA3C-AE18-407D-9609-55132D0A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D556-53AC-43AC-B3A0-28B680665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F309-28AA-4DDD-978E-D7601645F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5D81-D50E-40A2-B584-82042257C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041A-E43D-4162-9AC9-9AD770268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9D58-CCF0-449C-9501-651A4298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38ED-CA58-4981-B876-475E98AA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C8FF-3509-44AD-9B13-AB48C88B5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08C9-1B02-4CA9-A66D-09C1625C0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BF7D-7949-4CE9-8F89-F1261CD12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4EB1-7BA3-4752-9A59-2A7C2012D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127-72CA-4194-9B83-0B2694DB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81C-0219-446F-AD12-B0A7392D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E39-1511-4241-A6A5-7D507395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6BA-C576-4547-B3B6-5F56B169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CB67-7ED9-4467-9303-2FA769C1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65E-9073-4AFC-8FCC-7C235780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092-CC50-4995-BE43-CB805043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5F3-EA38-4ED1-A616-1D65DCD8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3BE-8BC3-4A8A-A081-28D5C617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03E-53DE-420A-B51B-28576C2F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677-D797-4F21-8916-70D1580C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9C2-7667-4695-8971-EFF6E0CA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060C-A3B1-4A3C-983E-EA20613A5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will compare and contrast various forms of governme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2362320" y="1066680"/>
            <a:ext cx="4572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S6CG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tic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04920" y="1219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a form of government in which the supreme power is retained by the people, but which is usually exercised indirectly through a system of representation and delegated authority periodically renew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3886200"/>
            <a:ext cx="220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d “democracy” comes from two Greek words: “demos” meaning “people” and “kratos” meaning “power” or “authority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unclesam_democracy"/>
          <p:cNvPicPr/>
          <p:nvPr/>
        </p:nvPicPr>
        <p:blipFill>
          <a:blip r:embed="rId1"/>
          <a:stretch/>
        </p:blipFill>
        <p:spPr>
          <a:xfrm>
            <a:off x="2895480" y="2209680"/>
            <a:ext cx="3571920" cy="2143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4648320" y="5334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505320" y="4724280"/>
            <a:ext cx="533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United States has had the same type of government for more than 200 years. It’s called a “representative democracy.” Among the nations of the world, it is unusual for a system of government to last so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705720" y="24382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hen citizens directly participate in government by voting, it’s called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5238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c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505320" y="15238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garch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6629400" y="15238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c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3716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920" y="3124080"/>
            <a:ext cx="20574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erson has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137160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152280" y="4876920"/>
            <a:ext cx="23623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opl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ight to say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vernment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4956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76960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124080" y="3124080"/>
            <a:ext cx="27432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mall group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ll the authori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based on w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po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449568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3200400" y="4952880"/>
            <a:ext cx="25146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few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right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6400800" y="3124080"/>
            <a:ext cx="25146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ople e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ves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uthority 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 for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960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6400800" y="5029200"/>
            <a:ext cx="2438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eople have a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y wha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Describe the two predominate forms of democratic governments: parliamentary and presidential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liamentary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MCj01577570000[1]"/>
          <p:cNvPicPr/>
          <p:nvPr/>
        </p:nvPicPr>
        <p:blipFill>
          <a:blip r:embed="rId1"/>
          <a:stretch/>
        </p:blipFill>
        <p:spPr>
          <a:xfrm>
            <a:off x="3505320" y="4648320"/>
            <a:ext cx="1809720" cy="1647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MCj04059060000[1]"/>
          <p:cNvPicPr/>
          <p:nvPr/>
        </p:nvPicPr>
        <p:blipFill>
          <a:blip r:embed="rId2"/>
          <a:stretch/>
        </p:blipFill>
        <p:spPr>
          <a:xfrm>
            <a:off x="838080" y="4267080"/>
            <a:ext cx="1346400" cy="187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MCj04059120000[1]"/>
          <p:cNvPicPr/>
          <p:nvPr/>
        </p:nvPicPr>
        <p:blipFill>
          <a:blip r:embed="rId3"/>
          <a:stretch/>
        </p:blipFill>
        <p:spPr>
          <a:xfrm>
            <a:off x="3733920" y="1905120"/>
            <a:ext cx="1496880" cy="19954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28600" y="838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litical system in which the legislature (parliament) selects the government - a prime minister, premier, or chancellor along with the cabinet ministers - according to party strength as expressed in elections; by this system, the government acquires a dual responsibility: to the people as well as to the parlia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2209320" y="5410080"/>
            <a:ext cx="12193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5334120" y="5486400"/>
            <a:ext cx="14475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0" descr="MCj04396120000[1]"/>
          <p:cNvPicPr/>
          <p:nvPr/>
        </p:nvPicPr>
        <p:blipFill>
          <a:blip r:embed="rId4"/>
          <a:stretch/>
        </p:blipFill>
        <p:spPr>
          <a:xfrm>
            <a:off x="6781680" y="4952880"/>
            <a:ext cx="1905120" cy="1354320"/>
          </a:xfrm>
          <a:prstGeom prst="rect">
            <a:avLst/>
          </a:prstGeom>
          <a:ln w="0">
            <a:noFill/>
          </a:ln>
        </p:spPr>
      </p:pic>
      <p:sp>
        <p:nvSpPr>
          <p:cNvPr id="127" name="Line 22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67057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inet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685800" y="6095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Minister: Head of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3200400" y="3962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: Head of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809880" y="6248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6248520" y="31240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 majority party controls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580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 of government where the executive branch exists separately from a legislature (to which it is generally not accountabl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MCj01743270000[1]"/>
          <p:cNvPicPr/>
          <p:nvPr/>
        </p:nvPicPr>
        <p:blipFill>
          <a:blip r:embed="rId1"/>
          <a:stretch/>
        </p:blipFill>
        <p:spPr>
          <a:xfrm>
            <a:off x="2590920" y="1981080"/>
            <a:ext cx="4267080" cy="4256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6"/>
          <p:cNvSpPr/>
          <p:nvPr/>
        </p:nvSpPr>
        <p:spPr>
          <a:xfrm>
            <a:off x="228600" y="6172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 three branches of the U.S. government check and balance each oth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6172200" y="2057400"/>
            <a:ext cx="2362320" cy="914400"/>
          </a:xfrm>
          <a:prstGeom prst="wedgeEllipseCallout">
            <a:avLst>
              <a:gd name="adj1" fmla="val -73657"/>
              <a:gd name="adj2" fmla="val 30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elected by th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7200" y="2895480"/>
            <a:ext cx="1752480" cy="1219320"/>
          </a:xfrm>
          <a:prstGeom prst="wedgeEllipseCallout">
            <a:avLst>
              <a:gd name="adj1" fmla="val 72643"/>
              <a:gd name="adj2" fmla="val 33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’re elected by th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>
            <a:off x="6019920" y="4724280"/>
            <a:ext cx="2819160" cy="1447920"/>
          </a:xfrm>
          <a:prstGeom prst="wedgeEllipseCallout">
            <a:avLst>
              <a:gd name="adj1" fmla="val -22240"/>
              <a:gd name="adj2" fmla="val -76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appointed by the president with the approval of cong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liamentary vs. Presidentia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mocra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1447920"/>
            <a:ext cx="3429000" cy="685800"/>
          </a:xfrm>
          <a:prstGeom prst="rect">
            <a:avLst/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liamenta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5181480" y="1447920"/>
            <a:ext cx="3124440" cy="6858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identi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le 5"/>
          <p:cNvSpPr/>
          <p:nvPr/>
        </p:nvSpPr>
        <p:spPr>
          <a:xfrm>
            <a:off x="380880" y="2286000"/>
            <a:ext cx="342900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ing of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6"/>
          <p:cNvSpPr/>
          <p:nvPr/>
        </p:nvSpPr>
        <p:spPr>
          <a:xfrm>
            <a:off x="380880" y="3276720"/>
            <a:ext cx="35053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ve branch 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islative branch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7"/>
          <p:cNvSpPr/>
          <p:nvPr/>
        </p:nvSpPr>
        <p:spPr>
          <a:xfrm>
            <a:off x="380880" y="4419720"/>
            <a:ext cx="350532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liament elects the head of government; head can be voted out by 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8"/>
          <p:cNvSpPr/>
          <p:nvPr/>
        </p:nvSpPr>
        <p:spPr>
          <a:xfrm>
            <a:off x="380880" y="5562720"/>
            <a:ext cx="35053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al parties are strong; the opposition party is important to control of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9"/>
          <p:cNvSpPr/>
          <p:nvPr/>
        </p:nvSpPr>
        <p:spPr>
          <a:xfrm>
            <a:off x="5257800" y="2286000"/>
            <a:ext cx="30481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ion of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10"/>
          <p:cNvSpPr/>
          <p:nvPr/>
        </p:nvSpPr>
        <p:spPr>
          <a:xfrm>
            <a:off x="5257800" y="3429000"/>
            <a:ext cx="312408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 separation between executive and legislative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11"/>
          <p:cNvSpPr/>
          <p:nvPr/>
        </p:nvSpPr>
        <p:spPr>
          <a:xfrm>
            <a:off x="5257800" y="4419720"/>
            <a:ext cx="312408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vernment’s executive  (the President) is separate from Co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2"/>
          <p:cNvSpPr/>
          <p:nvPr/>
        </p:nvSpPr>
        <p:spPr>
          <a:xfrm>
            <a:off x="5257800" y="5562720"/>
            <a:ext cx="3124080" cy="99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cal parties have less of a role in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905120" y="2286000"/>
            <a:ext cx="50292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20040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Debra Harr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Describe the ways government systems distribute power: unitary, confederation, and federal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ary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57200" y="5486400"/>
            <a:ext cx="8381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reat majority of all the world’s nation-states are unitary systems, including Belgium, Bulgaria, France, Great Britain, The Netherlands, Japan, Poland, Romania, the Scandinavian countries, Spain, and many of the Latin-American and African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257800" y="1981080"/>
            <a:ext cx="342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 unitary government is what Britain was during the American Revolution; We were a nation united under control of one rule. There were no separate states creating their own laws or taxes, just the rule of the government over the entire population.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52280" y="1295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ll the power to decide anything rests in a central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MPj04024210000[1]"/>
          <p:cNvPicPr/>
          <p:nvPr/>
        </p:nvPicPr>
        <p:blipFill>
          <a:blip r:embed="rId1"/>
          <a:stretch/>
        </p:blipFill>
        <p:spPr>
          <a:xfrm>
            <a:off x="685800" y="2362320"/>
            <a:ext cx="3902040" cy="2600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9"/>
          <p:cNvSpPr/>
          <p:nvPr/>
        </p:nvSpPr>
        <p:spPr>
          <a:xfrm>
            <a:off x="609480" y="4952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uckingham Palace, Great Brit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ederation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99072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 union by compact or treaty between states, provinces, or territories, that creates a central government with limited powers; the states retain supreme authority over all matters except those few things delegated to the central governme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2895480" y="63244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 original 13 U.S. Colonies formed a Confedera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556236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1295280"/>
            <a:ext cx="883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m of government in which sovereign power is divided - usually by means of a constitution - between a central authority and a number of constituent regions (states, colonies, or provinces) so that each region retains some management of its internal affairs; differs from a confederacy because the central government has influence directly upon both individuals as well as upon the regional un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Cj01495110000[1]"/>
          <p:cNvPicPr/>
          <p:nvPr/>
        </p:nvPicPr>
        <p:blipFill>
          <a:blip r:embed="rId1"/>
          <a:stretch/>
        </p:blipFill>
        <p:spPr>
          <a:xfrm>
            <a:off x="4267080" y="3200400"/>
            <a:ext cx="3143520" cy="2127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33520" y="3124080"/>
            <a:ext cx="266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f a service or responsibility is not listed in the constitution for the national government to do, then it is up to the state to provid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429000" y="57150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xample: police, fire, hospitals, education, roads, voting, etc. are the responsibility of the states to fund and ope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880" y="1447920"/>
            <a:ext cx="2362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429000" y="1447920"/>
            <a:ext cx="2514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553080" y="1447920"/>
            <a:ext cx="228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5238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" y="3124080"/>
            <a:ext cx="22096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rests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124080" y="3124080"/>
            <a:ext cx="3048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ement amo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/regions create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central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472428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472428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3352680" y="4724280"/>
            <a:ext cx="259092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government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ntrol o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/reg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769608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6477120" y="3124080"/>
            <a:ext cx="25146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is di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/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769608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6324480" y="5105520"/>
            <a:ext cx="266724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governmen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ntrol ove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/reg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Explain how governments determine citizen participation: autocratic, oligarchic, and democratic.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cratic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MCPE03901_0000[1]"/>
          <p:cNvPicPr/>
          <p:nvPr/>
        </p:nvPicPr>
        <p:blipFill>
          <a:blip r:embed="rId1"/>
          <a:stretch/>
        </p:blipFill>
        <p:spPr>
          <a:xfrm>
            <a:off x="3657600" y="3962520"/>
            <a:ext cx="1706400" cy="1784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0" y="11430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In an autocratic government, one person or group holds all the power, without the participation, or sometimes even the consent, of the peo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8600" y="373392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d “autocracy,” the opposite of democracy, comes from the Greek words: “autos” meaning “self” and “kratos” meaning “power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1824120" cy="18241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3581280" y="5791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bsolute 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248520" y="5791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ilitary Dictat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6553080" y="2438280"/>
            <a:ext cx="2438640" cy="838440"/>
          </a:xfrm>
          <a:prstGeom prst="wedgeRoundRectCallout">
            <a:avLst>
              <a:gd name="adj1" fmla="val -19203"/>
              <a:gd name="adj2" fmla="val 1367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will do exactly what I s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3124080" y="2362320"/>
            <a:ext cx="2971800" cy="1143000"/>
          </a:xfrm>
          <a:prstGeom prst="wedgeRoundRectCallout">
            <a:avLst>
              <a:gd name="adj1" fmla="val 1814"/>
              <a:gd name="adj2" fmla="val 90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have compete control over everyone and everyth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garchic Gover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MCj04363050000[1]"/>
          <p:cNvPicPr/>
          <p:nvPr/>
        </p:nvPicPr>
        <p:blipFill>
          <a:blip r:embed="rId1"/>
          <a:stretch/>
        </p:blipFill>
        <p:spPr>
          <a:xfrm>
            <a:off x="5029200" y="2514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MCj04396120000[1]"/>
          <p:cNvPicPr/>
          <p:nvPr/>
        </p:nvPicPr>
        <p:blipFill>
          <a:blip r:embed="rId2"/>
          <a:stretch/>
        </p:blipFill>
        <p:spPr>
          <a:xfrm>
            <a:off x="3429000" y="2819520"/>
            <a:ext cx="5181480" cy="3686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228600" y="11430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a government in which control is exercised by a small group of individuals whose authority generally is based on wealth or powe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80880" y="3886200"/>
            <a:ext cx="19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d oligarchy is from the Greek for "few" and "rule"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0:32:10Z</dcterms:created>
  <dc:creator>Harrington</dc:creator>
  <dc:description/>
  <dc:language>en-US</dc:language>
  <cp:lastModifiedBy>Test Apps1</cp:lastModifiedBy>
  <dcterms:modified xsi:type="dcterms:W3CDTF">2009-09-16T14:47:31Z</dcterms:modified>
  <cp:revision>5</cp:revision>
  <dc:subject/>
  <dc:title>SS6CG1 </dc:title>
</cp:coreProperties>
</file>